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2320"/>
            <a:ext cx="10158480" cy="76392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10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uffalo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pic>
        <p:nvPicPr>
          <p:cNvPr id="38" name="Picture 4" descr="Capture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474840"/>
            <a:ext cx="1015848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dc:language>en-US</dc:language>
  <cp:lastModifiedBy>Sacerdote, Kevin R.</cp:lastModifiedBy>
  <dcterms:modified xsi:type="dcterms:W3CDTF">2015-09-12T19:41:02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